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5D1E-11D8-4029-83A3-ADD7BC399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3C23-BDA7-41A8-98E8-2C67F55C1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EB0F-05C6-45A6-8FCD-F15C31957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6CED-A9F0-47E2-A0F3-4AF8FD629D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21EF-A634-4F35-8E57-C97E151B0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9C06-B26B-475F-8FA2-15519D91E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C76E-26CB-4C6E-8DD6-60C59AC6D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3CC5-9138-4E45-B131-220BEE5B8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77EE-A9FD-4311-8294-A73702137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BF28-BA77-4C0E-A727-AC0A41285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1A85-1A69-4EB2-834A-EBEF0F733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C3E9-323E-4212-BCC7-026DD4D14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29A80FC-ECD4-4E76-B157-144B6A09CCD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CheckBox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: Autor: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#Autor# / Last change #Date#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/ date of print: </a:t>
            </a:r>
            <a:fld id="{64834767-B027-4B2F-A812-41103A059AA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1" descr=""/>
          <p:cNvPicPr/>
          <p:nvPr/>
        </p:nvPicPr>
        <p:blipFill>
          <a:blip r:embed="rId9"/>
          <a:stretch/>
        </p:blipFill>
        <p:spPr>
          <a:xfrm>
            <a:off x="5614920" y="44280"/>
            <a:ext cx="417348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5DA381F-1BAB-4CD3-8B3F-E5D3F466C5C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#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heckBox #ItemRev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utor: #Autor# Date: #Date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78E04BB-FCB8-43AB-A07A-F6DEBCB9565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Dataset #ItemRev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etails for CheckBox NX3 to Nx7.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940280" y="1827360"/>
            <a:ext cx="0" cy="387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77920" y="5970600"/>
            <a:ext cx="92660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1"/>
          <p:cNvSpPr/>
          <p:nvPr/>
        </p:nvSpPr>
        <p:spPr>
          <a:xfrm>
            <a:off x="290520" y="1108080"/>
            <a:ext cx="9462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r: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\\Server\Nxshare\JobManagerV2\90-DATA\Customer_WorkInst_TestSystem\12-Data\CheckBoxData\??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.Report: \\Server\Nxshare\JobManagerV2\90-DATA\Customer_WorkInst_TestSystem\12-Data\CheckBoxData\???\?? _NX75-NX3_Dif_Xml.tx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scription 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36520" y="1628640"/>
            <a:ext cx="164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X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146560" y="1628640"/>
            <a:ext cx="164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X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3-01-04T14:07:09Z</dcterms:modified>
  <cp:revision>239</cp:revision>
  <dc:subject/>
  <dc:title>PLMJobManagerV2 Docu Custome</dc:title>
</cp:coreProperties>
</file>